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DBF-7D73-456D-B2E4-8C5CA20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A8E-0EAF-478E-8B64-34F30302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5993-751F-4C56-A276-1B60990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1F8DE-AEE5-468B-96A0-3A0214BA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C4232-FE94-4433-88A2-77115935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E12D3-7B96-4492-A133-7699244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8D92-2558-4AE7-B561-0C794E3B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F19C1-15ED-40BD-BF3C-CF55590D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5C33F-3FE3-48AA-8386-1F000CF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97FBB-9A88-44F9-8DE5-DC5322DC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97CE-337D-4F84-BC5F-20601897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B6E04-EAF3-4A6B-9EBC-D15482C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CC4-8E6B-401C-AE5E-A59B039E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456D0-36E1-43ED-8654-89CBA91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B240F-E7AD-4E1A-A5D1-77E33084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3371A-0712-4B95-BF1E-9FB1FE4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69BE6-1FDB-4656-A9E9-DA11F3B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50E1F-4A82-4A0B-A2D6-215F96D0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0E936-ED82-4CCF-A0AB-EFF5607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A9EB3-4D51-482D-8217-A05168D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E7F1-883D-4E7D-BFDF-EE6F1B9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83D28-02F6-4F90-A78D-4215307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A6DD8-CDA9-4EF1-BD21-8CE27A85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1E1-BFD5-4C02-9AED-A66F62C6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0A72B-A7FF-4807-AF30-61BFFABE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DB1D2-E393-46BE-AA04-55A8754F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075FA-3919-4766-9F8F-7DEE4BA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3C21E-CC2E-43AF-AEBC-231A01D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63021-06AB-43A9-A8F2-237F103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71870-081E-4EB7-ABFC-CB17A913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EE1B0-AFC9-45B1-A38B-A4096FA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2531-D359-42A0-9AE3-D449138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F0FF-C356-4D2E-8692-552EA67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E12D7-EF60-4F39-8BC3-8276DEA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11F-95FF-43A8-BA8F-6C0EE462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29D7-9390-4430-BF50-CBE9911A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F455-164C-42CD-A0DF-19179231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C2F32-C3C7-4ACA-93E7-B2493E83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4FBD0-41CC-4B47-975A-B4CECB1F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B9255-B432-49EF-9124-3CCE369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AB02-422F-427E-832A-F2C08BB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AE4E8-6ADC-443E-B2A2-933B58A4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95BE-0E02-4F53-A2EA-3B2FCE1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5A695-145B-4072-9358-641E468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5D09A-C335-40C9-8299-9E3F9FB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63F3-D7F8-4B1E-B069-8F9BED3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3AE77-4572-4A4C-9B87-28CB68C2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0A3D5-3BED-4962-803D-C637420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274C9-149A-4586-9AB2-24EDF84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CB41F-C534-44B4-9970-9BF4EC5B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F359F-6CDF-4F9E-BB53-E9FBF4EC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A80C0-6A69-4FFB-AB8F-4EA3065F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F3B90-A92B-4A5A-8E28-9E998F28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7D49E-8C7A-44E7-9331-3455F3F4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766A8-B9DF-4475-A455-218871A2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11CD6-C19A-4932-B32A-1E484202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F41-972B-4B44-AF55-04D4DB4D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CBB69-3DCA-43B4-803B-1D42D66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9ECA7-0FBF-4EB4-BD2C-FA7E920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A477D-924D-4FE4-803D-1B9E7B5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E9BDE-7C99-48A7-A2C7-7192FED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48719-4321-4A8C-8DD0-F10280A5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2444F-73B4-46A8-A340-EC2FB9B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D5F4C-C904-40FE-AAF2-B291F3A5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DB3B8-5ABD-4259-BA40-3C886ADA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1F50C-DEA7-4ACB-9C91-FFA1BB40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A9117-1F4A-4B26-9498-8B723B2B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E790-AFE8-4AE8-B1B8-160DF284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B98A8-5EB6-4345-A92E-7DDE0F1D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70E97-A08D-43E3-980B-4D7159AA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F9B85-A2AF-42DC-BBF2-64D2330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A80F2-B03E-4C7E-B327-8AD90D3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50F2-030C-4DA1-B04A-5A6678F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28D4A-F8E3-4BFD-B656-965578C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6D322-32C2-4C04-B382-2D86F61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C5ABF-A023-46C8-906C-6E025B8B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5627F-94B9-43F2-99A4-4A92F3F9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D8291-3A9F-4C5C-971E-0F4AA62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2130-5199-4BE3-A764-A8758E8E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24588-EECE-4082-8A91-1A9C774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3EFBC-4EA8-4A5C-96D9-ED57F4F7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973D3-E8C0-48ED-82EB-392FA4A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BF32C-D972-42C1-9FE7-4AF2888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BE85A-BED9-4411-8F83-4B021EF3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6ADBF-92C1-4A0B-8096-772A395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60ECD-74B0-42F8-A1A4-E19453D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9733D-C568-416F-BEF7-B04E7AD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AED17-4E2D-47BB-A0DA-17F2A7AC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0D62C-0D61-4802-BE32-73183827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8380-3411-4588-9D43-DB7971E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BF02A-1F3D-410A-90B4-972B1134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940CA-07B1-4234-ACA7-7AB03DF7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57C40-BF90-48C9-AC0B-5CCBBAE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EF31B-D15C-456E-824F-52F2A5D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199B0-3B65-471E-A53E-F3A943A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5034D-32E2-4256-91E5-44A8479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00770-2253-4464-B228-7DBEDEC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ABFAE-FB34-43FF-98EC-E56EB18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05C2F-E666-4560-84EC-D1C5B88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99EFD7-3E30-4EF0-933F-FEBB9B7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352C-9342-4513-AD5F-EAB4AEFD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E93D6-38D0-4E2D-955E-19DD40E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C35BA-9E52-4EB1-934B-627BE5E3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E52E3-B7F0-4D64-8E59-CE56375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935EF-96B4-468A-8F0A-DD48474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01791-EFC3-45A7-A738-18B63E4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73F15-A0DC-4E81-8085-CA1F104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54385-1F0E-4384-9DA1-124153B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C5152-02A5-4CBD-8E04-18A065A1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56372-F3D7-411D-8E1B-2BB7325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03E8B-D9F5-4966-8970-1BE76D7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0B3-5FDE-4FA5-891B-5E5F9F4A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19A-EE99-469B-8F4E-CDF8405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E2791-BA38-49F6-9463-3E01D76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B507C-D60D-453F-8BF8-85F9065E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277DA-B4E3-49B1-8538-ABA7BD6B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2A26A-DFD1-4BC6-973F-B107B276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C783F-86A6-4654-98B3-40496544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350F5-DF02-4F75-A6D2-A7A05F29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7CEE6-2448-40E7-B720-A84E739C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89255-E675-40AB-A235-878B51B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8EA90-03A9-41BB-BB34-24FC4CD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AADFC-D5EA-4C5B-8AA5-A62D64A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BB3-B9AF-489A-8E3C-AC27D14D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CC34E-3C6E-480E-8070-25EBC17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402E46-7C07-40A5-AC01-68FD250F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6A645-D285-4E83-8114-A2FA41F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58F02-1A77-4DBE-94A8-D6E78D7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B3FF4-59FF-45F8-B9D1-D1EAF2D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6A7D9-8FFB-4382-BE0C-1B79B33D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727A0-6F50-4C85-99D8-C7D710B3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939A19-19CC-4556-84E3-F7DB730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AE944-5DC8-4AA5-8C8A-5DAEDF7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77EB1-79D1-49AD-ABB8-E610B740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DFF-26D3-4211-8055-99B44C1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A40EB-6534-4A8D-8989-EB0DE9F0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574C2-85F1-49E8-81D6-227D86E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E9CE5-19F9-4347-A809-F350B9A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49974-B878-4154-887A-9D621C7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9803B4-AA3C-401B-A030-0376CB0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B005F-EBEA-41E5-9FC9-58B431C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258A9-1365-4A2C-AECE-13817721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60AA2-3EFE-4A53-BF67-F48CB918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81885-047E-439F-A46C-585338E8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A59E3-894E-4003-9B24-D5DD94C0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4A4-1FED-46CC-A2AB-B8A31425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9D205-DAA9-411E-91AF-3CC0F62B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E2EA3-2A6B-4B69-90D3-90B8C76B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94B16-DAA5-4BA2-B6F0-02334B6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8D335-DD86-4931-9DC7-EFA9A014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59AF3-39A4-46F6-B3D6-B716FED0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D856D-1D21-4B05-B419-0AB40AA9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CB728-03EC-4C03-863A-F17E4C7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2CFFE-52D1-4596-9092-A758D11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57BB8C-2F40-482E-BB80-34619D01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0EF6F-8395-44EF-8181-EF5DB5B0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C5BC-E31E-4166-B6A3-36D5E642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A1F22-4139-4DEB-8CA9-6DC54D03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18265-A70A-4CAF-83AE-1447BEAA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95338-0F74-4C3B-87B3-53076E39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5DDB8-EDD2-4268-85DE-93B3EA1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7B1D6-9D06-45A1-ACFB-51D95AA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454B2-EB4C-4CDB-BF2C-A9C56E3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41895-1266-4595-9B8D-953171F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1FFEF-9A74-4DC4-923D-3375888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991CA-11FF-4FC1-8238-73E8FE0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C78A5-D1F4-48A2-8FC4-D01FBB8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319B-53CB-4C62-8C60-1C637D26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3CB7A-3FE5-42E7-B8FE-9CAA024E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CAE754-11D2-4940-8734-DE9F50A8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E815C-F688-4CC4-8F37-C152CFE9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4C2A4D-5337-4643-AB9A-D0ECCF3B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57A86F-4EBE-45A8-9A8F-E52E324F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46A78-7BBC-4DDF-BC4B-A0B0C8B1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A0C95-46D3-4108-9977-B11888F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F64A4-4B7E-4026-BFBE-EF993B3A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58F863-BE39-426B-9235-060B16F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86EE8-1229-4AAA-8CD0-8D5B628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6356-5013-4EB6-B992-3EEA633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19A854-DBE3-482D-B6E9-6D2F9F3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404DB-2C07-4AC5-84C5-C0995B6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79B5F-3F7D-4967-A590-91DAAAF8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928BC-702F-47AA-AC8E-484CDAF5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63D0D-E2FF-43BD-BAAA-99D7009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212047-0AEE-4274-902E-7E3316B3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0DDE1-FBA7-4D44-B80B-CD51FAB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48FB31-42C1-43E7-8B4A-7C1E9E2D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52D6A6-A9AB-4B6F-86AA-EA1285E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59367-7B67-4538-86E5-00083E6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77F3-3F2A-472A-9EE9-7A0DF82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E1E8E2-68D7-4F41-B521-D6C96658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35DC8-B9C2-4AC8-B9D0-19109BD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8910A0-4B9E-47D0-86C2-334A839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E2BD9-DEE4-43D4-81A9-3EF4CE9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43F793-AA32-4577-823E-80B49EE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427DE-208F-4666-B2DC-F2EE61E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EED22F-4CCF-46E2-9902-EB38BB3D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9028-1176-446E-9ACC-FB2C0697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243F-8226-43A2-A634-71A27104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C04-D5D9-4EF4-9BED-B14124B9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9904-E316-4F59-8809-742BFA1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56C7-C336-49DD-BC17-A854855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FFAD-4A7D-4965-9A62-1D397B89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06D1-5791-4B40-BDC2-7A0C21F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FC5C-6747-4139-846E-4E9D384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D82C-89E8-424C-AAF2-37D123EF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3934-6DB5-4720-942D-BFCDEB56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BC9F-D669-4827-8919-BA869392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01C2-5BBB-4C21-ACC4-64F1349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21A6-2023-4D43-B76B-8D55232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559-837A-48A4-94D4-E4A2122F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4B42-7740-4A24-B2C7-838ACAAF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C1B6-93BA-44BA-9373-282A16BF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F9CF-29B7-4C13-8B51-653EEA0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C477-08C5-4C29-A122-2E7E81F3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5280-3609-4AB7-A303-1DE28DD6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4709-14BD-4DEA-9D76-099940B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BA4A-2960-4696-8796-C5BF30C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AF0F-A9B9-462D-9F4F-82C0CBCC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EB0E-E2BD-4222-9E3E-CED92A67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2E20-7FAB-46C4-9EDE-62778312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2C6-BD22-4DAE-AF41-1966BF2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E63B-53FA-4092-89D4-9B2D29C5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42888-9432-4B42-A3BA-30C8F73D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412B-839D-49C7-A805-426DE91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83C6E-978B-4A16-B994-F24EAD6E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756E-BDF0-40A6-A75E-09BA68B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C4DD-4D8F-48ED-94C6-CA66412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56651-4BAC-4459-9DC3-41E7050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B4D6-F26C-4D7D-8350-FD29691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154F-01CF-46BB-BF49-755A1C7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ECD9-3FD0-490A-9644-ED175DE0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0DB-AA3D-40DF-A347-8B688738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D093-14CB-497A-AEE9-17C4B098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9FCA-182E-4D79-B506-FE8235A7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400A-E9C6-4874-B459-0018D6B3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6193-C075-4D45-BA62-AF75C013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9FAA-F3F3-4D2E-9C2B-3487C16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0B46-5983-4520-891E-7CAF2F36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A77A-35ED-46C7-9A1C-F88A3E38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BBCA7-863A-40BD-89C7-8308CF9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92C40-6639-42DA-90EF-C91C8A3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D189-1E48-4C84-A9DB-9864C2B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8E0-0546-4374-A86F-AEF6B03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ECA3A-2B2B-4930-8920-A00ABB5D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FAD4-C21A-47CE-8796-2D7AF50D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610F-122C-491B-8DB4-60AEDA86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B16D-CBE0-4A06-9853-E6034984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00A8-9CDA-47FC-8756-9D9A9C9F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BE397-21BC-4CF3-A2CC-D790ADC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5CB0A-36E0-4BC6-94EB-EAE246B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2E0B-B4A1-4128-B5D6-3121EC3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A234-D2E5-4CD3-936C-4FF77438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D19A9-BAD5-421F-8F8D-353F470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925-6EAB-43B1-BE11-4B4CD7C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655C2-BFFF-46EE-AC97-82FB2E2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42748-C789-41E6-A082-CF30E90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A188F-2889-466A-905A-06F0C55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5D8A1-8FA7-41ED-B800-37D0220B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85CF-C190-4EB3-A529-29FE2504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64EC-3CC4-446D-9E45-C0A6FC56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5B53-B6A0-429F-8451-08C4B291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C7CF1-FD4C-45B3-A15D-43AD97B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D12D-ABD8-4890-AD74-F5EE4662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6F1B-2952-4E1B-BE6C-1CCE3398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642-7BF4-4A33-BB8F-7C83A1F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1B6B-5E81-48F5-8DE9-22140FD5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AA36-13C2-4F26-890A-C3C7575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F581-AE25-482D-B973-A96B30D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EEBA-893A-4497-BD41-BAF6DE0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4B51-4771-4B46-9AE3-07033C7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7F54-5860-4003-A991-0B5C1071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23ED8-B4F5-47D5-A79B-72C6B2C4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A0239-45C9-48E1-8148-E6C8D7CF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47CD7-218D-49ED-8C88-470ED974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8DF6-2D6C-4E0B-B90C-42F09CC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FAB-0A33-48B5-9EE2-BFB14325D3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DE5B-A969-41AB-9DC6-3CDBBAC00B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FD4E-DA37-44CB-9BC9-3A0246B07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34B-D620-445E-88E5-6B7F92CD59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C8B6-2DAE-4AD9-8D0B-73E496A38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E5E-0E8F-423D-9A85-8A74E80A1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EC0-5A84-452C-8633-C7C7E265B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46A-7A77-448D-B241-B7A899D8D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831-AA7D-4D40-A1AC-FB053FFDA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0312-5E16-4E7F-98BE-9C291A4F5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D873-F5A5-48B9-9001-00E735D0B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217-AD7A-47BB-A744-C3291E9B7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7355-347A-4073-8A2A-12D2D5752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90F1-4C98-47C9-A11D-08C17C91CA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D9B9-9E3D-4504-AD79-2A6D90588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0DFA-9103-4938-8788-48E736AAB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4467-083F-42C6-9369-99670D9D0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932-8AAA-42E0-9BE9-8FD8A8AF25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E77-9028-4F90-9668-C156D31F9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C251-E417-485C-8665-76CD8110F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85E-B9C2-48CE-8E07-C7F467100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6852-D31E-4D61-A102-ABF99C897D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596-2B82-4E84-9337-25265DBFF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9BAD-8E8B-46B5-8FBD-4022CC3CD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0DD-2E44-42F3-B692-FB57FE252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213-15AB-4011-BF90-A65AE461A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18E-2468-4A2C-83F8-E5A0DAD0E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88FA-9DCF-4FBE-AD44-74659D105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31B1-A219-4ACA-9345-F61D9666A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B074-11CD-4E37-BDD7-54DE6E74B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3347-2F79-4F1C-B6B9-8A670F81D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AA7-C6AA-4EC1-BDFD-C88C9EDE7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A1B-00D7-4D7E-AF69-36BDC6FDF5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A4DD-30AA-4F28-BCAE-2483133B15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3B5B-3C22-4DE7-8448-4263A27DC1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DDF-1659-490D-B5B3-EBC7A10D7B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3A5-3D7B-4068-BB5F-646A1849D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4D95-33CB-4A09-AF9C-54F3A958C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27BE-52C3-4174-AFFD-D7AC3B194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592-FFFB-4115-A2D9-B1AD53FA3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7C79-0535-4EC3-A3AF-3FEEE21EF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801-5B05-4874-98F2-1C1E33D563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3360" y="3054240"/>
            <a:ext cx="8769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66840" y="961920"/>
            <a:ext cx="8410320" cy="49341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295128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492360" y="2421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2720" y="3025800"/>
            <a:ext cx="3195720" cy="3168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553160" y="244944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09480" y="223920"/>
            <a:ext cx="7925040" cy="64101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044880" y="879480"/>
            <a:ext cx="13827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500720" y="1370160"/>
            <a:ext cx="4174920" cy="52275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6861240" y="836640"/>
            <a:ext cx="1382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00040" y="33480"/>
            <a:ext cx="8143920" cy="67910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5450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419640" y="7128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4140360" y="663480"/>
            <a:ext cx="4535280" cy="61660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6948360" y="10152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43000" y="971640"/>
            <a:ext cx="8658000" cy="4914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3851280" y="326880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550872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7236000" y="32846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3924360" y="410544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508720" y="4149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7236000" y="41497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5435640" y="498636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0"/>
          <a:stretch/>
        </p:blipFill>
        <p:spPr>
          <a:xfrm>
            <a:off x="7162920" y="49863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90440" y="565200"/>
            <a:ext cx="8763120" cy="6219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432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691240"/>
            <a:ext cx="748800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428760" y="1504800"/>
            <a:ext cx="8286480" cy="3848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71640" y="3817800"/>
            <a:ext cx="763272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485640" y="981000"/>
            <a:ext cx="8172720" cy="4896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178740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748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74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116000" y="3860640"/>
            <a:ext cx="7489800" cy="1152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5172120"/>
            <a:ext cx="74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09520" y="1243080"/>
            <a:ext cx="8724960" cy="4371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00000" y="4854600"/>
            <a:ext cx="590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